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DFF-99DD-42A8-A59D-3AA7D804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264-F737-4982-848F-0C4E8EC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FE6-FC58-4341-A863-F5B5FE3E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D72-E195-48C9-93D0-8700AAE3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D1B-7C07-4060-857D-CD6870DC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D17-6B97-47BC-A957-1B1EE46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335-2F6D-4644-A2EB-31E11A1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3A5-0585-44C4-99B4-F47A157C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869-94A2-4CE9-AF0C-AB665DBB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878-0C55-47DA-8BCE-75C05385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E1C-CB6C-4A70-9336-54F1DC0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34E-8C86-4FC7-B80A-1E103A91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22AB-9CF9-4D02-9D5A-252056CCB06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70720" y="617760"/>
            <a:ext cx="7019280" cy="6080040"/>
            <a:chOff x="1170720" y="617760"/>
            <a:chExt cx="7019280" cy="6080040"/>
          </a:xfrm>
        </p:grpSpPr>
        <p:sp>
          <p:nvSpPr>
            <p:cNvPr id="42" name="_s2059"/>
            <p:cNvSpPr/>
            <p:nvPr/>
          </p:nvSpPr>
          <p:spPr>
            <a:xfrm flipH="1">
              <a:off x="2540880" y="617760"/>
              <a:ext cx="4279680" cy="4281480"/>
            </a:xfrm>
            <a:custGeom>
              <a:avLst/>
              <a:gdLst>
                <a:gd name="textAreaLeft" fmla="*/ 360 w 4279680"/>
                <a:gd name="textAreaRight" fmla="*/ 4280400 w 4279680"/>
                <a:gd name="textAreaTop" fmla="*/ 0 h 4281480"/>
                <a:gd name="textAreaBottom" fmla="*/ 4281840 h 42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57"/>
            <p:cNvSpPr/>
            <p:nvPr/>
          </p:nvSpPr>
          <p:spPr>
            <a:xfrm flipH="1" rot="14400000">
              <a:off x="1953360" y="1633320"/>
              <a:ext cx="4281120" cy="4280400"/>
            </a:xfrm>
            <a:custGeom>
              <a:avLst/>
              <a:gdLst>
                <a:gd name="textAreaLeft" fmla="*/ 360 w 4281120"/>
                <a:gd name="textAreaRight" fmla="*/ 4281840 w 4281120"/>
                <a:gd name="textAreaTop" fmla="*/ 0 h 4280400"/>
                <a:gd name="textAreaBottom" fmla="*/ 4280760 h 42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9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56"/>
            <p:cNvSpPr/>
            <p:nvPr/>
          </p:nvSpPr>
          <p:spPr>
            <a:xfrm flipH="1" rot="7200000">
              <a:off x="3125160" y="1633680"/>
              <a:ext cx="4281120" cy="4280400"/>
            </a:xfrm>
            <a:custGeom>
              <a:avLst/>
              <a:gdLst>
                <a:gd name="textAreaLeft" fmla="*/ 360 w 4281120"/>
                <a:gd name="textAreaRight" fmla="*/ 4281840 w 4281120"/>
                <a:gd name="textAreaTop" fmla="*/ 0 h 4280400"/>
                <a:gd name="textAreaBottom" fmla="*/ 4280760 h 42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53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54"/>
            <p:cNvSpPr/>
            <p:nvPr/>
          </p:nvSpPr>
          <p:spPr>
            <a:xfrm>
              <a:off x="1792080" y="1403640"/>
              <a:ext cx="17172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Arial"/>
                </a:rPr>
                <a:t>Fraction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55"/>
            <p:cNvSpPr/>
            <p:nvPr/>
          </p:nvSpPr>
          <p:spPr>
            <a:xfrm>
              <a:off x="3822120" y="4919760"/>
              <a:ext cx="17172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8"/>
            <p:cNvSpPr/>
            <p:nvPr/>
          </p:nvSpPr>
          <p:spPr>
            <a:xfrm>
              <a:off x="5852160" y="1403640"/>
              <a:ext cx="17172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Arial"/>
                </a:rPr>
                <a:t>Percentage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86080" y="82080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1480" y="3014640"/>
                <a:ext cx="519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780000" y="5661000"/>
            <a:ext cx="15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258920" y="1700280"/>
                <a:ext cx="207972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665680" y="1557360"/>
                <a:ext cx="119232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55640" y="4514760"/>
                <a:ext cx="30956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87280" y="1413000"/>
            <a:ext cx="2778120" cy="1655640"/>
          </a:xfrm>
          <a:prstGeom prst="cloudCallout">
            <a:avLst>
              <a:gd name="adj1" fmla="val -2629"/>
              <a:gd name="adj2" fmla="val 42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by a 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87280" y="1413000"/>
            <a:ext cx="2880000" cy="20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9080" y="2867040"/>
            <a:ext cx="1776240" cy="706320"/>
          </a:xfrm>
          <a:custGeom>
            <a:avLst/>
            <a:gdLst/>
            <a:ahLst/>
            <a:rect l="l" t="t" r="r" b="b"/>
            <a:pathLst>
              <a:path w="1119" h="445">
                <a:moveTo>
                  <a:pt x="1119" y="0"/>
                </a:moveTo>
                <a:lnTo>
                  <a:pt x="0" y="445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88080" y="32338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1341360"/>
            <a:ext cx="2808360" cy="194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1268280"/>
            <a:ext cx="2592360" cy="1656000"/>
          </a:xfrm>
          <a:prstGeom prst="cloudCallout">
            <a:avLst>
              <a:gd name="adj1" fmla="val -26606"/>
              <a:gd name="adj2" fmla="val 40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vide 2 by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÷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1930320"/>
            <a:ext cx="1152720" cy="1079640"/>
          </a:xfrm>
          <a:custGeom>
            <a:avLst/>
            <a:gdLst/>
            <a:ahLst/>
            <a:rect l="l" t="t" r="r" b="b"/>
            <a:pathLst>
              <a:path w="726" h="680">
                <a:moveTo>
                  <a:pt x="0" y="0"/>
                </a:moveTo>
                <a:cubicBezTo>
                  <a:pt x="143" y="11"/>
                  <a:pt x="287" y="23"/>
                  <a:pt x="408" y="136"/>
                </a:cubicBezTo>
                <a:cubicBezTo>
                  <a:pt x="529" y="249"/>
                  <a:pt x="627" y="464"/>
                  <a:pt x="726" y="6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08200" y="3573360"/>
            <a:ext cx="5545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2924280"/>
            <a:ext cx="3024360" cy="1368360"/>
          </a:xfrm>
          <a:prstGeom prst="cloudCallout">
            <a:avLst>
              <a:gd name="adj1" fmla="val -9004"/>
              <a:gd name="adj2" fmla="val 41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s a decimal using plac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552840"/>
            <a:ext cx="5329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3048120"/>
            <a:ext cx="3816360" cy="1368360"/>
          </a:xfrm>
          <a:prstGeom prst="cloudCallout">
            <a:avLst>
              <a:gd name="adj1" fmla="val -26083"/>
              <a:gd name="adj2" fmla="val 21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s a fraction with 10 as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076640"/>
            <a:ext cx="2592360" cy="172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4365720"/>
            <a:ext cx="2519280" cy="1439640"/>
          </a:xfrm>
          <a:prstGeom prst="cloudCallout">
            <a:avLst>
              <a:gd name="adj1" fmla="val -34120"/>
              <a:gd name="adj2" fmla="val 28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special form of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5084640"/>
            <a:ext cx="252360" cy="432000"/>
          </a:xfrm>
          <a:custGeom>
            <a:avLst/>
            <a:gdLst/>
            <a:ahLst/>
            <a:rect l="l" t="t" r="r" b="b"/>
            <a:pathLst>
              <a:path w="159" h="272">
                <a:moveTo>
                  <a:pt x="0" y="0"/>
                </a:moveTo>
                <a:cubicBezTo>
                  <a:pt x="56" y="45"/>
                  <a:pt x="113" y="91"/>
                  <a:pt x="136" y="136"/>
                </a:cubicBezTo>
                <a:cubicBezTo>
                  <a:pt x="159" y="181"/>
                  <a:pt x="136" y="249"/>
                  <a:pt x="136" y="27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03640" y="3860640"/>
            <a:ext cx="2881440" cy="187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92680" y="4124160"/>
            <a:ext cx="3456000" cy="1368720"/>
          </a:xfrm>
          <a:prstGeom prst="cloudCallout">
            <a:avLst>
              <a:gd name="adj1" fmla="val -10634"/>
              <a:gd name="adj2" fmla="val 41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a special form of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02120" y="4294080"/>
                <a:ext cx="32814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148360" y="4941720"/>
            <a:ext cx="2651040" cy="1079640"/>
          </a:xfrm>
          <a:custGeom>
            <a:avLst/>
            <a:gdLst/>
            <a:ahLst/>
            <a:rect l="l" t="t" r="r" b="b"/>
            <a:pathLst>
              <a:path w="1670" h="680">
                <a:moveTo>
                  <a:pt x="1587" y="0"/>
                </a:moveTo>
                <a:cubicBezTo>
                  <a:pt x="1628" y="170"/>
                  <a:pt x="1670" y="340"/>
                  <a:pt x="1406" y="453"/>
                </a:cubicBezTo>
                <a:cubicBezTo>
                  <a:pt x="1142" y="566"/>
                  <a:pt x="571" y="623"/>
                  <a:pt x="0" y="6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-27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186080" y="82080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01480" y="3014640"/>
                <a:ext cx="519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0" y="5661000"/>
            <a:ext cx="15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88080" y="32338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-27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356000" y="1915920"/>
            <a:ext cx="0" cy="36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2421000"/>
            <a:ext cx="5184720" cy="2017800"/>
          </a:xfrm>
          <a:prstGeom prst="cloudCallout">
            <a:avLst>
              <a:gd name="adj1" fmla="val 3000"/>
              <a:gd name="adj2" fmla="val 56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s a fraction with 100 as denominator then divide numerator and denominator by common factor of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115640" y="3860640"/>
            <a:ext cx="2376360" cy="165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43280" y="2708280"/>
                <a:ext cx="3105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4360" y="4508640"/>
                <a:ext cx="34480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÷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-108000" y="3933720"/>
            <a:ext cx="4896000" cy="2374920"/>
          </a:xfrm>
          <a:prstGeom prst="cloudCallout">
            <a:avLst>
              <a:gd name="adj1" fmla="val 33009"/>
              <a:gd name="adj2" fmla="val -3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s a fraction with 100 as denominator then divide numerator and denominator by common factor o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1413000"/>
            <a:ext cx="1357200" cy="1079280"/>
          </a:xfrm>
          <a:custGeom>
            <a:avLst/>
            <a:gdLst/>
            <a:ahLst/>
            <a:rect l="l" t="t" r="r" b="b"/>
            <a:pathLst>
              <a:path w="855" h="680">
                <a:moveTo>
                  <a:pt x="771" y="680"/>
                </a:moveTo>
                <a:cubicBezTo>
                  <a:pt x="813" y="532"/>
                  <a:pt x="855" y="385"/>
                  <a:pt x="726" y="272"/>
                </a:cubicBezTo>
                <a:cubicBezTo>
                  <a:pt x="597" y="159"/>
                  <a:pt x="298" y="79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3392640"/>
            <a:ext cx="2376720" cy="900000"/>
          </a:xfrm>
          <a:custGeom>
            <a:avLst/>
            <a:gdLst/>
            <a:ahLst/>
            <a:rect l="l" t="t" r="r" b="b"/>
            <a:pathLst>
              <a:path w="953" h="477">
                <a:moveTo>
                  <a:pt x="953" y="477"/>
                </a:moveTo>
                <a:cubicBezTo>
                  <a:pt x="896" y="306"/>
                  <a:pt x="840" y="136"/>
                  <a:pt x="681" y="68"/>
                </a:cubicBezTo>
                <a:cubicBezTo>
                  <a:pt x="522" y="0"/>
                  <a:pt x="261" y="34"/>
                  <a:pt x="0" y="6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1412640"/>
            <a:ext cx="266544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341360"/>
            <a:ext cx="3166920" cy="1582920"/>
          </a:xfrm>
          <a:prstGeom prst="cloudCallout">
            <a:avLst>
              <a:gd name="adj1" fmla="val -22282"/>
              <a:gd name="adj2" fmla="val 40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numerator and denominator by a common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58920" y="1413000"/>
                <a:ext cx="21607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86080" y="82080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01480" y="3014640"/>
                <a:ext cx="519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80000" y="5661000"/>
            <a:ext cx="15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88080" y="32338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-27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0760" y="44928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84960" y="4915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4720" y="44877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26040" y="4495680"/>
            <a:ext cx="5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76720" y="3789360"/>
            <a:ext cx="2519640" cy="194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076640"/>
            <a:ext cx="3311640" cy="1656000"/>
          </a:xfrm>
          <a:prstGeom prst="cloudCallout">
            <a:avLst>
              <a:gd name="adj1" fmla="val -20995"/>
              <a:gd name="adj2" fmla="val 39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40 by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decimal point 2 places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186 L -0.01615 -0.09375 L -0.07031 -0.09028 L -0.08646 0.00162 E">
                                      <p:cBhvr>
                                        <p:cTn id="29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7:21:39Z</dcterms:created>
  <dc:creator>Graeme Henchel</dc:creator>
  <dc:description/>
  <dc:language>en-US</dc:language>
  <cp:lastModifiedBy>AdamsD</cp:lastModifiedBy>
  <dcterms:modified xsi:type="dcterms:W3CDTF">2011-06-06T06:23:16Z</dcterms:modified>
  <cp:revision>4</cp:revision>
  <dc:subject/>
  <dc:title>Fraction Decimal Percentage conversions</dc:title>
</cp:coreProperties>
</file>